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C95-FD09-492B-AED5-C2E2750D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E18-3DD5-4D03-9ECA-1E35E13E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1C8-6FDE-4379-A9E1-DA5FCF13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BA5-772C-4124-AB34-D21FE9B2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FBB-1A2C-45EC-BA83-43A83F43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2F2-6FFB-4282-9E57-8722576F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10E-1B26-4A7B-B80D-EAAC9017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0D7C-408D-4734-89FD-4DB770F0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D81-214F-4E67-96FD-330D894B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6C5-507C-40BE-9CCA-76BA6197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538-3960-426E-9CBA-2260208F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261-0095-4998-A22A-8F58EF77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03D4-988F-42DA-8119-8B1E4618129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nglishrussia.com/images/weird_russian_matreshkas/1.jpg&amp;imgrefurl=http://englishrussia.com/index.php/2007/09/11/weird-looking-russian-matryoshkas/&amp;usg=__skfFu8W5R2cT_CUFGKa9q4hcNM4=&amp;h=376&amp;w=500&amp;sz=34&amp;hl=en&amp;start=1&amp;zoom=1&amp;um=1&amp;itbs=1&amp;tbnid=txzzrHkzS-R3ZM:&amp;tbnh=98&amp;tbnw=130&amp;prev=/images%3Fq%3Drussian%2Bculture%26um%3D1%26hl%3Den%26sa%3DN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red-october.net/wp-content/uploads/2008/12/russian-ballet.jpg&amp;imgrefurl=http://www.red-october.net/2006/05/music-and-the-arts/&amp;usg=__PW1f6lpxsuCzFu1LvhD58omappU=&amp;h=343&amp;w=300&amp;sz=18&amp;hl=en&amp;start=1&amp;zoom=1&amp;um=1&amp;itbs=1&amp;tbnid=eYsBw0CRE2UqvM:&amp;tbnh=120&amp;tbnw=105&amp;prev=/images%3Fq%3Drussian%2Bballet%26um%3D1%26hl%3Den%26sa%3DN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waytorussia.net/userfiles/image/WhatIsRussia/RussianFood/Soups/borcsh.jpg&amp;imgrefurl=http://www.waytorussia.net/WhatIsRussia/RussianFood/Soups.html&amp;usg=__1eZRkBcoQgEBanWZV-_x5Gvgu7o=&amp;h=180&amp;w=200&amp;sz=24&amp;hl=en&amp;start=2&amp;zoom=1&amp;um=1&amp;itbs=1&amp;tbnid=ufnK1SDSZo40cM:&amp;tbnh=94&amp;tbnw=104&amp;prev=/images%3Fq%3Dtraditional%2Brussian%2Bfood%26um%3D1%26hl%3Den%26sa%3DX%26tbs%3Disch: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google.com/imgres?imgurl=http://www.mosnews.com/photos/69/169_400x300.jpg&amp;imgrefurl=http://www.mosnews.com/weird/2009/03/06/deadlypancake/&amp;usg=__HVI1Tr6U8r_6stzFCzlTOP9RlZg=&amp;h=300&amp;w=400&amp;sz=145&amp;hl=en&amp;start=3&amp;zoom=1&amp;um=1&amp;itbs=1&amp;tbnid=YeTAIrsrXlhFtM:&amp;tbnh=93&amp;tbnw=124&amp;prev=/images%3Fq%3Drussian%2Bpancakes%26um%3D1%26hl%3Den%26sa%3DX%26tbs%3Disch: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e In Rus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Julia Cassetta &amp; Clare Doher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572000"/>
            <a:ext cx="265608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http://www.1uptravel.com/flags/images/rs-lgflag.gif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libri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st rulers severe limits on relig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spoken l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daism , Islam, and Christia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st number practices Christian fai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popular religion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sic, art, and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place to find Russian culture is St. Petersburg’s th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 museum in St. Petersbur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ous poet Alexander Pushkin protes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o Tolstoy’s novel war and peace protes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4760" y="4876920"/>
            <a:ext cx="1533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eb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Years E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rth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ist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day of m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o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ould start with a soup called bors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t (turn over'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3733920"/>
            <a:ext cx="2743200" cy="2479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3886200"/>
            <a:ext cx="30290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t2.gstatic.com/images?q=tbn:njRWuYAsyACBoM:"/>
          <p:cNvPicPr/>
          <p:nvPr/>
        </p:nvPicPr>
        <p:blipFill>
          <a:blip r:embed="rId1"/>
          <a:stretch/>
        </p:blipFill>
        <p:spPr>
          <a:xfrm>
            <a:off x="5943600" y="2819520"/>
            <a:ext cx="2973240" cy="3843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Calibri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similar to 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f the same letters look the same but do not sound the s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6:43:35Z</dcterms:created>
  <dc:creator> </dc:creator>
  <dc:description/>
  <dc:language>en-US</dc:language>
  <cp:lastModifiedBy> </cp:lastModifiedBy>
  <dcterms:modified xsi:type="dcterms:W3CDTF">2010-12-15T22:22:48Z</dcterms:modified>
  <cp:revision>7</cp:revision>
  <dc:subject/>
  <dc:title>Culture</dc:title>
</cp:coreProperties>
</file>